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9788-74B6-4D98-A0C8-0AF0C2A029A3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BFF0-D336-4AB5-80FB-B7A3E0950C80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3942-1647-4D97-A8B0-B56F2452CD8F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0C7E-8310-4515-A10A-743F58F13284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B70B-87A4-42F7-9297-BEE402213347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17EE-303E-4AC4-8640-7E66759DD1C2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37B4-BC93-433D-B824-AC7F8BE485BC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F82-B2CA-4656-87E2-C9D53868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38A-B844-4F5F-82D7-534C6DB8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7E8-9B8E-4FCD-9D60-BFC30077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A33-A8B3-49CF-9FDC-6A26DE25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63B-9C3F-4FE0-91B2-5544C698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352-6D3C-408E-9041-C4AFF8C6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942-60A4-4725-BA3E-86F4C037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E32-4641-4C0C-AA26-301862EE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B0A-B357-4261-B1DB-1F91A965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3D5-797B-437C-95FD-84F36C6A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4BB-43F9-4FEE-84F6-06A50AB1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1A4-1B42-4909-AEBF-47092375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3912-24F1-48B9-AE87-F9FDD6F30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268360" y="1285920"/>
            <a:ext cx="6661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impacto de Internet en la participación política en Es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de tesis doct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hipótesis a testar mediante análisis de enc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4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9933"/>
                </a:solidFill>
                <a:latin typeface="Verdana"/>
              </a:rPr>
              <a:t>Marco teórico</a:t>
            </a:r>
            <a:endParaRPr b="0" lang="en-US" sz="2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175600" cy="49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iteratura sobre participación políti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1) Definición de la participación política y debates sobre clasificaciones: “convencional-no convencional”. Debate sobre cambios de repertorios, nuevos repertor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2) Factores explicativos de la participación: modelo de voluntarismo cívico y otras influencias o desarroll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Recursos socio-económicos (SE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l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mplicación psicológica: actitudes + valo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unity attachment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Un modelo glo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iteratura sobre el impacto de Interne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uso de Internet y los recur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uso de Internet y la implicación psicoló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uso de Internet y la creación de comun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uso de Internet y la participación polí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33"/>
                </a:solidFill>
                <a:latin typeface="Verdana"/>
              </a:rPr>
              <a:t>Principales hipótesis</a:t>
            </a:r>
            <a:endParaRPr b="0" lang="en-US" sz="2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161360"/>
            <a:ext cx="8064360" cy="44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uso más frecuente/intensivo de Internet aumenta la probabilidad del individuo de participar en polí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sposición de nuevos o mejore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arrollo de actitudes propiciadoras: más im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tenencia a comunidad más factible: impacto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uso más frecuente/intensivo de Internet potencia determinadas formas de participación política, menos institucionaliza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tipo de actitudes, recursos y comunidades a las que se acceden con el uso de Internet reúnen características propias de la predisposición a la acción política menos conven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33"/>
                </a:solidFill>
                <a:latin typeface="Verdana"/>
              </a:rPr>
              <a:t>Análisis mediante encuesta</a:t>
            </a:r>
            <a:endParaRPr b="0" lang="en-US" sz="2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61912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álisis clásicos de la particip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403280" y="2565360"/>
          <a:ext cx="2447640" cy="870840"/>
        </p:xfrm>
        <a:graphic>
          <a:graphicData uri="http://schemas.openxmlformats.org/drawingml/2006/table">
            <a:tbl>
              <a:tblPr/>
              <a:tblGrid>
                <a:gridCol w="2447640"/>
              </a:tblGrid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ctores (off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476360" y="4797360"/>
          <a:ext cx="2518920" cy="753840"/>
        </p:xfrm>
        <a:graphic>
          <a:graphicData uri="http://schemas.openxmlformats.org/drawingml/2006/table">
            <a:tbl>
              <a:tblPr/>
              <a:tblGrid>
                <a:gridCol w="2518920"/>
              </a:tblGrid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articipación (off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788000" y="2565360"/>
          <a:ext cx="2447640" cy="791640"/>
        </p:xfrm>
        <a:graphic>
          <a:graphicData uri="http://schemas.openxmlformats.org/drawingml/2006/table">
            <a:tbl>
              <a:tblPr/>
              <a:tblGrid>
                <a:gridCol w="2447640"/>
              </a:tblGrid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ctores (on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788000" y="4797360"/>
          <a:ext cx="2447640" cy="718560"/>
        </p:xfrm>
        <a:graphic>
          <a:graphicData uri="http://schemas.openxmlformats.org/drawingml/2006/table">
            <a:tbl>
              <a:tblPr/>
              <a:tblGrid>
                <a:gridCol w="2447640"/>
              </a:tblGrid>
              <a:tr h="7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ticipación (on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2556000" y="3573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92360" y="3573360"/>
            <a:ext cx="172728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3500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3645000"/>
            <a:ext cx="172872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6191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pue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2924280"/>
            <a:ext cx="576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3573360"/>
            <a:ext cx="4608720" cy="107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349360"/>
            <a:ext cx="536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15840" y="3614760"/>
            <a:ext cx="1269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3322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9933"/>
                </a:solidFill>
                <a:latin typeface="Verdana"/>
              </a:rPr>
              <a:t>(1) Análisis de los factores explicativos</a:t>
            </a:r>
            <a:endParaRPr b="0" lang="en-US" sz="24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55640" y="1413000"/>
          <a:ext cx="3164760" cy="942120"/>
        </p:xfrm>
        <a:graphic>
          <a:graphicData uri="http://schemas.openxmlformats.org/drawingml/2006/table">
            <a:tbl>
              <a:tblPr/>
              <a:tblGrid>
                <a:gridCol w="3164760"/>
              </a:tblGrid>
              <a:tr h="942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ctores (off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003640" y="1413000"/>
          <a:ext cx="3380760" cy="942120"/>
        </p:xfrm>
        <a:graphic>
          <a:graphicData uri="http://schemas.openxmlformats.org/drawingml/2006/table">
            <a:tbl>
              <a:tblPr/>
              <a:tblGrid>
                <a:gridCol w="3380760"/>
              </a:tblGrid>
              <a:tr h="94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ctores (on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4140360" y="1989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781360"/>
            <a:ext cx="763272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El uso de Internet y los recursos: ¿Internet como “social leveler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El uso de Internet y la implicación psicológ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Actitudes y 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Información política-sofist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El uso de Internet y la creación de comunidades: capital social online vs atom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3640" y="332280"/>
            <a:ext cx="8569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339933"/>
                </a:solidFill>
                <a:latin typeface="Verdana"/>
              </a:rPr>
              <a:t>(2) Factores explicativos de la participación política</a:t>
            </a:r>
            <a:endParaRPr b="0" lang="en-US" sz="22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332000" y="1341360"/>
          <a:ext cx="2447640" cy="870840"/>
        </p:xfrm>
        <a:graphic>
          <a:graphicData uri="http://schemas.openxmlformats.org/drawingml/2006/table">
            <a:tbl>
              <a:tblPr/>
              <a:tblGrid>
                <a:gridCol w="2447640"/>
              </a:tblGrid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ctores (off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403280" y="3645000"/>
          <a:ext cx="2518920" cy="753480"/>
        </p:xfrm>
        <a:graphic>
          <a:graphicData uri="http://schemas.openxmlformats.org/drawingml/2006/table">
            <a:tbl>
              <a:tblPr/>
              <a:tblGrid>
                <a:gridCol w="2518920"/>
              </a:tblGrid>
              <a:tr h="75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articipación (off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572000" y="1341360"/>
          <a:ext cx="2447640" cy="791640"/>
        </p:xfrm>
        <a:graphic>
          <a:graphicData uri="http://schemas.openxmlformats.org/drawingml/2006/table">
            <a:tbl>
              <a:tblPr/>
              <a:tblGrid>
                <a:gridCol w="2447640"/>
              </a:tblGrid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ctores (on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716360" y="3645000"/>
          <a:ext cx="2447640" cy="718200"/>
        </p:xfrm>
        <a:graphic>
          <a:graphicData uri="http://schemas.openxmlformats.org/drawingml/2006/table">
            <a:tbl>
              <a:tblPr/>
              <a:tblGrid>
                <a:gridCol w="2447640"/>
              </a:tblGrid>
              <a:tr h="71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articipación (on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2484360" y="2349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419280" y="2492280"/>
            <a:ext cx="172692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227664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565360"/>
            <a:ext cx="172872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4941720"/>
            <a:ext cx="770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odelo global para participación online y off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odelos diferenciados para modos participa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3:43:24Z</dcterms:created>
  <dc:creator>sbau</dc:creator>
  <dc:description/>
  <dc:language>en-US</dc:language>
  <cp:lastModifiedBy> Marta Luque Fernández</cp:lastModifiedBy>
  <dcterms:modified xsi:type="dcterms:W3CDTF">2008-06-06T18:22:55Z</dcterms:modified>
  <cp:revision>79</cp:revision>
  <dc:subject/>
  <dc:title>Sin título de diapositiva</dc:title>
</cp:coreProperties>
</file>